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B71-2CAA-4FF5-905A-8B8BD54D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C18-947F-4617-9989-AB766183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5B1-AFC0-4213-8365-E33A6ED6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967-E44B-4099-B4C8-7F5E5479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F22-A401-44AA-9583-43739D30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4B8-70EF-4061-9E57-0F141B4E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CF4-BAE1-4A26-A9E2-B85586BB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E78-6EB1-4D38-B81D-2228B148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6A4-7E22-4027-B3D2-590899C2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A8F-FAA6-4F19-9B74-6D5D7D4D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F2E-CB9E-4CBD-B92E-0B980F5C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5CC5-1E29-4865-9160-CED9E06B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8F0A-F438-40F4-A8D8-0BEA523277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C:\Program Files\dsp2002i\dadispnt.exe D:\DADISP_files" TargetMode="External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C:\Program Files\dsp2002i\dadispnt.exe D:\DADISP_files" TargetMode="Externa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C:\Program Files\dsp2002i\dadispnt.exe D:\DADISP_files" TargetMode="External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adisp.com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Le traitement des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rès grandes séries de données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_________________________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ncis Mas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oratoire de Physique, Lycée Classique de Dieki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e Spéléologique Luxembourgeo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ncis.massen@education.l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486900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1er exemple: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éries de 1 million de donné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____________________________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2565000"/>
            <a:ext cx="74898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usoide (S) et Cosinusoide (C)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illion de points, espacés de 0.001 s fréquence 1 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c 1000 cycles à 1000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alculer  S*ABS(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769080" y="5300640"/>
          <a:ext cx="2374920" cy="21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9080" y="5300640"/>
                    <a:ext cx="237492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9D9-29D7-4D41-86C8-742E440A5B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232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2e exemple: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on et niveau de l’eau dans le bassin supérieur de la SEO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avril-mai 2005): ~130000 données par série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____________________________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450864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Y a-t-il une période cachée dans les signaux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5445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 oui, y a-t-il un déphasage entre le signal radon et le signal niveau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236000" y="5784840"/>
          <a:ext cx="274608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6000" y="5784840"/>
                    <a:ext cx="274608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DB1-630F-4EF7-9C0C-E6ADDA720A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2e exemple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3e exemple: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on et niveau de l’eau dans le bassin supérieur de la SEO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____________________________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lle est la relation moyenne journalière entre concentration de radon et niveau de l’ea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e5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0e5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0e500"/>
                </a:solidFill>
                <a:latin typeface="Arial"/>
              </a:rPr>
              <a:t>calculer les moyennes Radon et Niveau pour chaque heure de la journ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e5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0e5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0e500"/>
                </a:solidFill>
                <a:latin typeface="Arial"/>
              </a:rPr>
              <a:t>représenter Radon % Niveau et en tirer les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308720" y="5784840"/>
          <a:ext cx="27464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5784840"/>
                    <a:ext cx="274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DFE-911E-4A56-8F16-67C22B9C4A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onclusions: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____________________________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DiSP est un très bon logiciel pour les traitements rapides de séries très longu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existe une version gratuite DADiSPSE limitée à 9 fenêtres et 36000 points par série; la version complète est disponible en essai pour 30 jours (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www.dadisp.c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La version complète ( &lt; 3MB!) coûte  $1995.-  Protection par signature.</a:t>
            </a:r>
            <a:br>
              <a:rPr sz="2800"/>
            </a:b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Nombreux add-ons disponibles, comme p.ex. Digital Filters, Statistics…. Prix $495 en génér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6D9-FC2E-4149-A5E4-D264863594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erci de votre attention!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____________________________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36000" y="494172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4941720"/>
            <a:ext cx="3465720" cy="17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00A-622C-4BA2-BC50-DA34A6E465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e problème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logger à entrées mult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équence d’échantillonnage élev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ée des mesures quelques mo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*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à x*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 donné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16360" y="1413000"/>
            <a:ext cx="1765080" cy="1690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92360" y="1771560"/>
            <a:ext cx="122400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060640"/>
            <a:ext cx="122400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2347920"/>
            <a:ext cx="122400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2637000"/>
            <a:ext cx="122400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2924280"/>
            <a:ext cx="122400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566100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B7A-4210-48A4-8B81-1CBBBF77EE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emple: oscillations des courants d’air dans une grotte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____________________________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estroff: période de ~90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r avoir une bonne résolution (et dans l’ignorance à priori de la période): dt = 1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registrement sur une semaine: 604800 points de me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FBAC-8BE5-4B72-8B49-A633290F51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300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omment traiter ces séries énormes?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____________________________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ur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1224000" cy="99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429264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 pour Excel 2003 et OpenCalc 2: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5536 lignes, c.à.d. environ 1.5 mois avec u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ure par min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56000" y="2511360"/>
            <a:ext cx="2065320" cy="98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E70-4B53-4AD6-85FA-7C083FF752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ravail agréable?</a:t>
            </a:r>
            <a:br>
              <a:rPr sz="3600"/>
            </a:b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_______________________________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66920" y="1700280"/>
            <a:ext cx="3384720" cy="46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10C-379B-4D52-822D-748C0E68BB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Utiliser le logiciel du dataloger?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____________________________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, mais devient problématique dans un environnement hétérogène (loggers différ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794-7FF8-484D-B4C3-88401BCE51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La solution: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____________________________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52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tableur graphique: 1 cellule = 1 sé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1584360" cy="1524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8029800" cy="781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9640" y="530064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éé en 1984 par Randy Race et Tony Purnell (version 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misé pour la vite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s de mille fonctions scientifiques et du traitement du sig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7FD-8ECD-4BBD-9F80-41ECAF5B9B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6767640" cy="3389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6372000" y="1268280"/>
            <a:ext cx="433080" cy="23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692360" y="1052640"/>
            <a:ext cx="288720" cy="151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692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 sé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1640" y="907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 autre sé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843280" y="1413000"/>
            <a:ext cx="433440" cy="23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62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 condensation de la sé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500360" y="2133720"/>
            <a:ext cx="502920" cy="25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1484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 extraction d’une partie de la sé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3AB-6CBC-49CD-8EBE-F0AFE790F4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emple d’une macro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____________________________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= série de 1440 mesures avec dt= 1 m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velx(W,60)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se(Colmean(Ravel(W,60,1)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47640" y="3428640"/>
            <a:ext cx="0" cy="1368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492360" y="3500280"/>
            <a:ext cx="0" cy="1368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084720" y="3429000"/>
            <a:ext cx="0" cy="1440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360" y="50133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écoupage en une matrice de 1440/60 =24 colonnes et 60 ligne. Chaque colonne représente une heure de mesures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500220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 des moyennes des colonnes (= vecteur à 1 colonne, chaque élément = une moyenne horai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501336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éarrangement en vecteur-ligne = série ordina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303-94C1-4C9A-8428-6AEB36A154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9:29:15Z</dcterms:created>
  <dc:creator>Peter Mc.Mulloch</dc:creator>
  <dc:description/>
  <dc:language>en-US</dc:language>
  <cp:lastModifiedBy>Peter Mc.Mulloch</cp:lastModifiedBy>
  <dcterms:modified xsi:type="dcterms:W3CDTF">2007-11-10T17:31:02Z</dcterms:modified>
  <cp:revision>18</cp:revision>
  <dc:subject/>
  <dc:title>Le traitement des très grandes séries de données </dc:title>
</cp:coreProperties>
</file>